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C71-777A-438E-B4FB-C5B7C00B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053-5E2C-4350-8CDC-AA291B9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1A0DE-6C29-4748-8B0B-8528660E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1FA0-7FE2-442B-88BE-7A95597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4230-84E0-42E0-BFAA-57DC637D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26DB3-863E-47E7-827D-96F07D8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334C1-3CA4-4963-835E-C27B4CC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8818E-064B-436F-9738-AF93571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71672-BB34-4280-98B6-CF93E9C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24328-AB75-409A-AEF9-570ACD19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020A8-4F29-4199-B94D-6D554CE0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15DA5-7D9B-4452-A631-C30C169B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22A-880C-4F71-8F10-BE849CF3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F2FE-8490-4CE2-933C-85534F3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80C0D-6FAC-4377-B462-2BFF9073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5A682-40FC-439A-9A9A-249430A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D68F8-40CB-40D3-851C-55610B25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98651-E0CD-4739-AD9A-5FB5BFF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DEFF-005B-4352-9D9A-6B905E7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FDF9D-D132-4A59-ABFF-DC85498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56EC6-F0DF-477B-89BD-76EC0B7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52F9F-AA5E-4E27-B472-1A0B8E5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B3362-6CEF-4D31-B1B7-7C32EDFB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388-6099-4B46-8EF6-C08062A2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5CB2-BDA1-4B28-B0C6-B802A295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4FB0-87F2-46AD-9363-7957F9BA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6A26-883A-4BFA-BE83-22BC280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0DB8D-58DF-40D2-B327-CDE31723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98104-058A-4886-9B42-3760F33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3F03-4642-4D81-AC32-BC9D675D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AB344-F301-42E6-AFF0-06A1BB2A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6905-ED38-4D9B-A61F-1113E9B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20CF-7CC4-48CC-B456-C59FCC8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21B7D-7C96-4285-A6C9-01E4D7AF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280-5656-4E1A-9463-BD19D88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2ECA-41D0-4A4B-9637-B745EAEC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82A3-9060-46E9-AED0-7B72B6E9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05F1-8F08-4B58-940F-1C83ABC8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A7D-B223-4BAA-9B68-09F7A4E0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ACC-7CB5-4227-95B4-10E59D1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E35-96C3-4F73-8732-92F4FB4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1F79-B93D-4389-8BA0-F1E55F05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666A-2F79-4C32-8499-2030EA7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AC5-3EAF-4020-BBA6-668DFA8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F64-8D6B-4E70-A6D8-C0183E7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27B-552F-4CA7-860F-273FB29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A4F2-5BC0-4EC0-A490-C16AD45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BEB-AC45-4C78-BB43-6965A39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8110-9C6B-4BB5-A39B-091A2E3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CA4-E5C9-434B-8173-2D268B7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5BDB-C958-4F04-8CEF-B2C149C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BEBB-583C-4119-B8BA-77CFEC83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89E1-22AF-4E88-81C5-D8C42B3D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5A66-A46D-4D88-97B1-7818F97C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74FF-5507-4186-BDF0-18D36E5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90C-51F5-4EE0-AF25-CA6857B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F6C1-CC25-4AB7-92CF-4F5AE24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EF83-2683-4C15-8BDA-84E288F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9D15-283E-4EDC-BD56-62F451F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63AA-2FAF-4EC9-A1E2-AB1AEDE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FDCB-6AA7-4F60-A91E-74A9B95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B092-AEAC-4099-AA42-1CE37F9A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D1F8-02B1-439D-9D1C-7B819B8F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5EEE-E215-4CD2-83F9-E22FB1B1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AC82-AB48-468A-A4F5-B52DFDE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F63F-9BAF-4180-86F3-534B9B5A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780-E82E-44D8-999B-6596241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329C-6A4D-4E5E-ADBF-6D8C545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719A-AC3B-434F-89DF-1A3955C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3A56-FC2E-4F16-A424-E0DDD429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6566-9470-467C-9F0F-2D4A806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6C81-010C-454D-8553-FF36B64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7356-D308-4E9B-A90C-ADFFAE9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008E-CC23-4BC4-A9D3-ABE3EC9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A51C-4A3E-4004-B460-540DA6DC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D1DD-32F9-45AD-8E09-DCF539D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5FFA-8AAB-4BF4-BDD1-88395BA2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E56-2671-457B-B171-FB7152B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E477-EA9B-4D26-BF13-CD2B8659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7C08-40FE-4566-9ACE-12B9D629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F101-AFB8-4213-AF79-A887E330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6FCF-DBE0-4907-A515-B6D48A55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FF6C-F4B5-46DC-ADEA-EF0251E7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45E8-948A-489D-9823-4AEDF2F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091B-391F-446E-ABCE-D17CF01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9EE9-F455-4929-BBAD-3F9A553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FBE4-290C-458D-881A-6A1D6A1E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8B74-510D-4B43-BAFD-0CDCCD06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707-CAA6-465E-919A-EADB5E8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5168-A09B-439F-87FC-A88899EB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EBF5-CCB1-4213-B778-E3E19E0E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2445-E09C-4E38-B212-E9AB8FA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BF61F-2643-4583-AB9C-231EFD2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8E1B-8958-49C0-82BB-D7B8A94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9D09-2DC5-4908-82E8-B421840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498A-2C83-45BD-B800-218DAD08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8CD08-EBBB-45D2-8EE6-22DB18F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5FC6-24A2-4DA6-992B-6C1DE8B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9E85-9AF5-4F8B-A490-3D06370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4EA-5EA9-4F35-A523-5827291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7204-7E91-495C-8CC0-5D269D9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90AE-A09D-402B-850C-99C19165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9D4C3-8759-4C98-9956-1A4359E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8E35-D96F-4B8C-897C-A0756874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DA08-990C-457D-A3A6-F41239B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CF96-0C86-4AD1-9858-0F79EDE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1F0C-BF37-498E-A4A7-14AB388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1535F-B5A8-40A9-A9D5-57FEF277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D73AD-8F70-44E5-A590-8FEC0DD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9D07-55F5-4C9B-94AD-7B456CB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1BD-D7B8-44A1-915F-D601461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C76EE-85EB-4E69-A02A-1C99953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3259E-26C3-4BEB-A5A2-7A78C3D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F08A-7638-4F80-A91C-1CE8938D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3D3C-3556-4CB5-ADD2-208DC213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2B81-E057-4C68-876C-81889AE8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3B814-7601-47E4-8A3E-D9732CF1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84571-B7FA-4A29-BCDF-B84EB6F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EE50-07C0-4E95-987E-AB2E1355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00407-2128-4DC0-9F5B-7DCCF11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3E3D-1529-4054-94BD-BC879B3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1BE-2E43-4271-9786-A1BCCDA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8CE5E-DE4A-44D9-A6D7-D324DB6F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AE66-0256-4EEF-8FE7-EDACE74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6D0BE-333B-4AAD-949D-17AC113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DC75-B08D-4A5B-85DE-422658F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92ED9-F98D-420B-A48E-4582235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2ACA-05D1-4A85-AC75-735FFAD5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EDCD-CE0D-4149-8BEB-38C63FFA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4804-BFDA-4312-8D4C-D44A1CEA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0EF27-3B5B-47E9-B02B-08B050A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42562-E71C-4823-8BCA-12F0411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1360"/>
            <a:ext cx="8634240" cy="25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5960" y="328320"/>
            <a:ext cx="4971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E93-F232-4499-A886-D17E4D92DC19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2417400" y="3529080"/>
            <a:ext cx="86382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03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798120"/>
            <a:ext cx="3271680" cy="22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43240" y="798480"/>
            <a:ext cx="6010200" cy="46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9A1-76C7-4D6C-8E09-19439B2ECA3C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/>
          <p:nvPr/>
        </p:nvCxnSpPr>
        <p:spPr>
          <a:xfrm>
            <a:off x="1447920" y="3204720"/>
            <a:ext cx="327096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449" name=""/>
          <p:cNvGrpSpPr/>
          <p:nvPr/>
        </p:nvGrpSpPr>
        <p:grpSpPr>
          <a:xfrm>
            <a:off x="7477200" y="482760"/>
            <a:ext cx="4071960" cy="5146560"/>
            <a:chOff x="7477200" y="482760"/>
            <a:chExt cx="4071960" cy="5146560"/>
          </a:xfrm>
        </p:grpSpPr>
        <p:sp>
          <p:nvSpPr>
            <p:cNvPr id="450" name=""/>
            <p:cNvSpPr/>
            <p:nvPr/>
          </p:nvSpPr>
          <p:spPr>
            <a:xfrm>
              <a:off x="7477200" y="482760"/>
              <a:ext cx="4071960" cy="514656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0">
              <a:noFill/>
            </a:ln>
            <a:effectLst>
              <a:outerShdw dist="228470" dir="474052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90040" y="812880"/>
              <a:ext cx="3447720" cy="44640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7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0800" y="1130400"/>
            <a:ext cx="5531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124840" y="1122120"/>
            <a:ext cx="2789280" cy="386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228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447920" y="5470560"/>
            <a:ext cx="55260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447560" y="318600"/>
            <a:ext cx="55386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525-CB56-4141-A7A0-ABB848A2C03A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/>
          <p:nvPr/>
        </p:nvCxnSpPr>
        <p:spPr>
          <a:xfrm>
            <a:off x="1447920" y="3142800"/>
            <a:ext cx="552780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81000"/>
          </a:bodyPr>
          <a:p>
            <a:pPr marL="27756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DDB-AE0E-4920-9D4E-6D100A7FDCB2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38840" y="798480"/>
            <a:ext cx="16146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4680" y="798480"/>
            <a:ext cx="78264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0FF-1921-431B-99F4-3BE365BA8AE8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438840" y="798120"/>
            <a:ext cx="2520" cy="466164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681-FC69-4537-BA77-66C7309C74B5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4040" y="1755360"/>
            <a:ext cx="864072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3680" y="3806640"/>
            <a:ext cx="8628120" cy="1011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22000"/>
          </a:bodyPr>
          <a:p>
            <a:pPr marL="752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223B-D1B8-4064-ABB1-0E2624E975E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>
            <a:off x="1454040" y="3804840"/>
            <a:ext cx="863208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9360" y="804600"/>
            <a:ext cx="96026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7920" y="2011320"/>
            <a:ext cx="4643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33EA-5969-408C-B3EB-3D6713259E78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7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804960"/>
            <a:ext cx="960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7920" y="2018880"/>
            <a:ext cx="464328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marL="5832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019-E25F-4646-818D-E84C44DD1CC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1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E26-39B7-4F3A-B767-99EB212B5551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61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8B58-D60C-427A-9449-32CF9B814491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5680" y="1398240"/>
            <a:ext cx="86360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Journée d’Apprentissage et de Partage Culturel Afric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146040" y="2623680"/>
            <a:ext cx="8636040" cy="6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Une initiative solidaire pour l’inclusion et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239120" y="3692520"/>
            <a:ext cx="72565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rteur : YANLOM'S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ate :10 décembre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ieu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airie de Pari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tact : associationyanlomsprod@gmail .com 00 33 07 83 91 46 44 /0033 0605662376/0023566999597/68687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168960"/>
            <a:ext cx="12192120" cy="368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Notre Partena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"/>
          <p:cNvSpPr/>
          <p:nvPr/>
        </p:nvSpPr>
        <p:spPr>
          <a:xfrm>
            <a:off x="880920" y="1844640"/>
            <a:ext cx="10171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50800" y="2998800"/>
          <a:ext cx="9605880" cy="441000"/>
        </p:xfrm>
        <a:graphic>
          <a:graphicData uri="http://schemas.openxmlformats.org/drawingml/2006/table">
            <a:tbl>
              <a:tblPr/>
              <a:tblGrid>
                <a:gridCol w="4803120"/>
                <a:gridCol w="4802760"/>
              </a:tblGrid>
              <a:tr h="441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009800" y="1432080"/>
          <a:ext cx="10173600" cy="3847680"/>
        </p:xfrm>
        <a:graphic>
          <a:graphicData uri="http://schemas.openxmlformats.org/drawingml/2006/table">
            <a:tbl>
              <a:tblPr/>
              <a:tblGrid>
                <a:gridCol w="1996920"/>
                <a:gridCol w="4088520"/>
                <a:gridCol w="4088160"/>
              </a:tblGrid>
              <a:tr h="336240"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ve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ant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epa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248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flyers et banderoles, mention dans les communications méd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16100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r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tous supports, mention verbale à l’événement, stand promotio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</a:tr>
              <a:tr h="131796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 00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grand format, mention médias/réseaux sociaux, stand premium, remerci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Ensemble, Faisons la Diffé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enez l’inclusion, l’éducation et la diversité culturelle avec YANLOM'S PR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otre engagement offrira transport, subsistances et espoir aux plus vulné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ez-nous 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00 33 07 83 91 46 44 /06056623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 aller plus l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nnexes disponibles : Dossier complet, rapports statistiques, planning détai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 :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Mme SOLKAM YANLOM Félicité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Présidente YANLOM'S PROD             Mail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el: 00 33 07 83 91 46 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3840" y="534600"/>
            <a:ext cx="9602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Invitation à la Solidarit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"/>
          <p:cNvSpPr/>
          <p:nvPr/>
        </p:nvSpPr>
        <p:spPr>
          <a:xfrm>
            <a:off x="1495440" y="3746520"/>
            <a:ext cx="9602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bjectif : Promouvoir l’inclusion sociale à Paris et soutenir l’éducation en Afriq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artenaires visés VOUS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629320"/>
            <a:ext cx="12192120" cy="395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00240" y="1096920"/>
            <a:ext cx="93852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Gill Sans MT"/>
              </a:rPr>
              <a:t>YANLOM'S PROD vous invite à soutenir un événement culturel et solidaire d’enver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202440"/>
            <a:ext cx="12192120" cy="52236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79120" y="815760"/>
            <a:ext cx="96044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Journée pour l’Inclusion et l’Espo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5600" y="1531800"/>
            <a:ext cx="46450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Journée culturelle avec ateliers de danse, musique, conte, défilé, transport adapté et distribution de subsistanc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and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11 octobre 2025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90680" y="1531800"/>
            <a:ext cx="6653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ù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Mairie de Paris 14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our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ffrir joie et dignité aux personnes vulnérables (personnes âgées, enfants en situation de handicap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Collecter 5 000 € pour 200 kits scolaires et 50 équipements d’assistance en Afr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9680" y="4484520"/>
            <a:ext cx="832644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Gill Sans MT"/>
              </a:rPr>
              <a:t>Données clées</a:t>
            </a:r>
            <a:r>
              <a:rPr b="0" lang="fr-FR" sz="1800" spc="-1" strike="noStrike">
                <a:solidFill>
                  <a:srgbClr val="ff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,2M de personnes âgées isolées en France (Petits Frères des Pauvres, 20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30M d’enfants sans accès à l’éducation en Afrique (UNESCO, 2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Sommes-Nous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1607760"/>
            <a:ext cx="110538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ssociation fondée en 2023 à Par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ission : Promouvoir les cultures africaines et soutenir les populations vulnér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éalisations : Œuvres caritatives, soirées culturelles, foires, journées et atéli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aleurs : Solidarité, inclusion, diversité cultur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us de 20 événements culturels, touchant 5 000 person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artenariats avec la Mairie de Paris 14e et autres acteur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-360" y="6141960"/>
            <a:ext cx="12192120" cy="62712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8008920" y="2027160"/>
            <a:ext cx="4183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0440" y="804960"/>
            <a:ext cx="9603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Amb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16000"/>
            <a:ext cx="960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clusion socia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Rassembler 500 personnes vulnérables (personnes âgées isolées, jeunes, orphelins, enfants en situation de handic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ien humanitair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Financer l’éducation et la mobilité des enfants en Afrique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culturel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Valoriser les traditions africa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186600"/>
            <a:ext cx="122839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rogramme et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47880" y="1476360"/>
            <a:ext cx="557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teliers : Danse africaine, musique (piano, guitare, percussions), chant, cont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Défilé en habits traditionnel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Vente solidaire de repas et boisson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Transport : Location de 2 bus pour enfants en situation de handicap et personnes âgée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istribution : 100 paquets de subsistances (enfants et personnes âgé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51040" y="1482840"/>
            <a:ext cx="464508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ésultats attendu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500 participants à Pari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5 000 € collect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200 kits scolaires et 50 équipements d’assistance distribu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s liens interculturel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00" y="626112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Bénéficiera de Votre Soutien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/>
          <p:nvPr/>
        </p:nvSpPr>
        <p:spPr>
          <a:xfrm>
            <a:off x="1450800" y="2016000"/>
            <a:ext cx="9603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À Pari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Personnes âgées isolées, jeunes, orphelins, enfants des rues, enfants en situation de handicap (500 bénéficiaires de subsista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En Afriqu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Enfants scolarisés ou en situation de handicap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quoi Soutenir ce Proje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16040"/>
            <a:ext cx="9603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stitutions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Alignement avec les ODD (Éducation, Réduction des inégalités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isibilité internationa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ecteur privé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 la responsabilité sociale d’entreprise (RSE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auprès d’une audience diversifié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ciété civile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Contribution à une cause inclusive et solidair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3840" y="574200"/>
            <a:ext cx="96026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beso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-9360" y="633564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9080" y="2324160"/>
            <a:ext cx="51674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6040" y="1957320"/>
          <a:ext cx="10243800" cy="3358800"/>
        </p:xfrm>
        <a:graphic>
          <a:graphicData uri="http://schemas.openxmlformats.org/drawingml/2006/table">
            <a:tbl>
              <a:tblPr/>
              <a:tblGrid>
                <a:gridCol w="10243800"/>
              </a:tblGrid>
              <a:tr h="3308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0 équipements d’assistance (béquilles, chaises roulantes, déambulateur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 algn="just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00 kits scol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88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2 bus pour transporter les enfants et les personnes handicap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as ou paquets de subsistances pour bénéfici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5954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instruments de mus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30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Kits de santé et matériel mé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ébergement des artis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6544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Frais de transport Artistes bénévo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tion des bénévo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996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gents de sécur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8T10:28:16Z</dcterms:created>
  <dc:creator>test1</dc:creator>
  <dc:description/>
  <dc:language>en-US</dc:language>
  <cp:lastModifiedBy/>
  <dcterms:modified xsi:type="dcterms:W3CDTF">2025-10-23T18:23:01Z</dcterms:modified>
  <cp:revision>28</cp:revision>
  <dc:subject/>
  <dc:title>Journée d’Apprentissage et de Partage Culturel Afric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2</vt:r8>
  </property>
</Properties>
</file>